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8A1-A438-4325-91E2-62087EB6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A4A4-B7A3-4C2B-93F9-D34FE8F2AEB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E90-EDA5-4360-B953-33CA9FF94CE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EBE-A43A-4B50-B616-39F633A6FE1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32C-8445-4549-BB10-F5F6D790630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153-CC53-4D00-8AF6-06307CB8AB4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F7D-F8A8-4263-A225-3F7125CC5B6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DD7-A4A9-452A-967D-456E934D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5A6-4DF5-414D-B85D-52797A6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E9A-796E-4939-A4AE-E8E34065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569-2302-49A0-B22A-FA8ADEE7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FFA-FDC1-4929-97FF-54A4216B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D54-251E-4AA8-93A6-B12490C7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842C-AC06-404D-82A9-1DADEA0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FDE0-02A0-4ED6-A275-64F88A3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DD1-9ED7-4183-AAFC-9ED927B1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CDCA-EE5E-4EF2-93C7-9105ED1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A91F-B72A-4943-BEDA-2CBBE774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351-281F-45C6-9BE6-28F2A3A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14E-B0BD-4B8C-AD11-C49062E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DE76-66DA-4EC7-B2AC-C53CDFD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2EBB-3C91-4FFA-AEAF-7F0D345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1204-9C6E-46C6-AAE3-DF1C9FEE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052D-64EA-4E15-BD3D-CC14CB92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C43-B5D9-4382-BC3A-49D3A35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0FC-CAC7-48AE-BB0F-57D6A04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451-F81D-4C38-B8EC-39FAA242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4CF-2DCF-4C8C-8F8F-9ABB9C7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82E-B21A-44EF-B56D-7CBBC29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8D4-F148-427E-86A6-409A3AC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560-45B8-40C7-91DC-4462E0A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994-3F15-4146-9844-6B18D3CC19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616-15BC-4AD7-B7AB-E7A87AF4661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age Italic"/>
              </a:rPr>
              <a:t>The 1950s Rebels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533520" y="762120"/>
            <a:ext cx="7924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Beatniks &amp; Rock n R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pic>
        <p:nvPicPr>
          <p:cNvPr id="221" name="Picture 5" descr="MCj04159800000[1]"/>
          <p:cNvPicPr/>
          <p:nvPr/>
        </p:nvPicPr>
        <p:blipFill>
          <a:blip r:embed="rId1"/>
          <a:stretch/>
        </p:blipFill>
        <p:spPr>
          <a:xfrm>
            <a:off x="5943600" y="3691080"/>
            <a:ext cx="2673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990720" y="152280"/>
            <a:ext cx="7162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he Other Ame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226360" cy="6019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groups you will have 1 day to write a rock n roll song about one of the following group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 America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living in the Appalachian M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ong must tell a story about your group’s experiences in the 1950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have/includ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words from the 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tanzas &amp; 3 repeated chor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opy of the song is due to me by the end of cla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50s FEAR = Teena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0080" y="1676520"/>
            <a:ext cx="822636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venile delinquen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- antisocia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criminal behavior of young peop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ok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1,000,000 Delinquent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dicted that by 1955 1 million teens would have criminal record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Film"/>
          <p:cNvSpPr/>
          <p:nvPr/>
        </p:nvSpPr>
        <p:spPr>
          <a:xfrm>
            <a:off x="26668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Film"/>
          <p:cNvSpPr/>
          <p:nvPr/>
        </p:nvSpPr>
        <p:spPr>
          <a:xfrm>
            <a:off x="40384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Film"/>
          <p:cNvSpPr/>
          <p:nvPr/>
        </p:nvSpPr>
        <p:spPr>
          <a:xfrm>
            <a:off x="5410080" y="4876920"/>
            <a:ext cx="1133640" cy="1752480"/>
          </a:xfrm>
          <a:custGeom>
            <a:avLst/>
            <a:gdLst>
              <a:gd name="textAreaLeft" fmla="*/ 260280 w 1133640"/>
              <a:gd name="textAreaRight" fmla="*/ 896400 w 1133640"/>
              <a:gd name="textAreaTop" fmla="*/ 659520 h 1752480"/>
              <a:gd name="textAreaBottom" fmla="*/ 10893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76720" y="1371240"/>
            <a:ext cx="5481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white artist who felt “beat down” by American cultur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for alternative lifestyles (rejected suburb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the rebels, the non-conformi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ack Kerou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wrote “On The Road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455760" y="27288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The Beatnik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078360" cy="489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79200" y="1752480"/>
            <a:ext cx="3273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8000" cy="4352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3" name="WordArt 4"/>
          <p:cNvSpPr txBox="1"/>
          <p:nvPr/>
        </p:nvSpPr>
        <p:spPr>
          <a:xfrm>
            <a:off x="457200" y="45720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n R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2742840"/>
            <a:ext cx="8226360" cy="388620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 ‘n’ roll = music with a loud and heavy b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yed by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lan Fr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Cleveland, Oh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d by African American rhythm and bl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RED parents! =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Generation g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5"/>
          <p:cNvSpPr txBox="1"/>
          <p:nvPr/>
        </p:nvSpPr>
        <p:spPr>
          <a:xfrm>
            <a:off x="455760" y="1920960"/>
            <a:ext cx="822636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ear = African American music will influence white teens!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455760" y="272880"/>
            <a:ext cx="822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581280" y="4724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Little Richard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09588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Elvi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entury Gothic"/>
              </a:rPr>
              <a:t>Chuck Berr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838240" cy="3238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252520" cy="2236680"/>
          </a:xfrm>
          <a:prstGeom prst="rect">
            <a:avLst/>
          </a:prstGeom>
          <a:ln w="0">
            <a:noFill/>
          </a:ln>
        </p:spPr>
      </p:pic>
      <p:sp>
        <p:nvSpPr>
          <p:cNvPr id="243" name="Film"/>
          <p:cNvSpPr/>
          <p:nvPr/>
        </p:nvSpPr>
        <p:spPr>
          <a:xfrm>
            <a:off x="304920" y="5181480"/>
            <a:ext cx="828720" cy="129564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640"/>
              <a:gd name="textAreaBottom" fmla="*/ 805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ilm"/>
          <p:cNvSpPr/>
          <p:nvPr/>
        </p:nvSpPr>
        <p:spPr>
          <a:xfrm>
            <a:off x="5562720" y="5334120"/>
            <a:ext cx="828720" cy="129528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280"/>
              <a:gd name="textAreaBottom" fmla="*/ 805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Film"/>
          <p:cNvSpPr/>
          <p:nvPr/>
        </p:nvSpPr>
        <p:spPr>
          <a:xfrm>
            <a:off x="8229600" y="4648320"/>
            <a:ext cx="828720" cy="1295280"/>
          </a:xfrm>
          <a:custGeom>
            <a:avLst/>
            <a:gdLst>
              <a:gd name="textAreaLeft" fmla="*/ 190080 w 828720"/>
              <a:gd name="textAreaRight" fmla="*/ 655200 w 828720"/>
              <a:gd name="textAreaTop" fmla="*/ 487440 h 1295280"/>
              <a:gd name="textAreaBottom" fmla="*/ 805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17" descr="http://www.8notes.com/images/artists/elvis-presley.jpg"/>
          <p:cNvPicPr/>
          <p:nvPr/>
        </p:nvPicPr>
        <p:blipFill>
          <a:blip r:embed="rId3"/>
          <a:stretch/>
        </p:blipFill>
        <p:spPr>
          <a:xfrm>
            <a:off x="6248520" y="1676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536400" y="92160"/>
            <a:ext cx="8226720" cy="1736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urry Up"/>
              </a:rPr>
              <a:t>Rock 'n' Roll I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urry Up"/>
              <a:ea typeface="Hurry Up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New Dance Mov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Stroll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Fl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Twi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ilm"/>
          <p:cNvSpPr/>
          <p:nvPr/>
        </p:nvSpPr>
        <p:spPr>
          <a:xfrm>
            <a:off x="4952880" y="4952880"/>
            <a:ext cx="676440" cy="1524240"/>
          </a:xfrm>
          <a:custGeom>
            <a:avLst/>
            <a:gdLst>
              <a:gd name="textAreaLeft" fmla="*/ 155160 w 676440"/>
              <a:gd name="textAreaRight" fmla="*/ 534960 w 67644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Film"/>
          <p:cNvSpPr/>
          <p:nvPr/>
        </p:nvSpPr>
        <p:spPr>
          <a:xfrm>
            <a:off x="3276720" y="4952880"/>
            <a:ext cx="676080" cy="1524240"/>
          </a:xfrm>
          <a:custGeom>
            <a:avLst/>
            <a:gdLst>
              <a:gd name="textAreaLeft" fmla="*/ 155160 w 676080"/>
              <a:gd name="textAreaRight" fmla="*/ 534600 w 67608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Film"/>
          <p:cNvSpPr/>
          <p:nvPr/>
        </p:nvSpPr>
        <p:spPr>
          <a:xfrm>
            <a:off x="4124160" y="4952880"/>
            <a:ext cx="676440" cy="1524240"/>
          </a:xfrm>
          <a:custGeom>
            <a:avLst/>
            <a:gdLst>
              <a:gd name="textAreaLeft" fmla="*/ 155160 w 676440"/>
              <a:gd name="textAreaRight" fmla="*/ 534960 w 676440"/>
              <a:gd name="textAreaTop" fmla="*/ 573480 h 1524240"/>
              <a:gd name="textAreaBottom" fmla="*/ 94752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cline of Inner C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White families moved to suburbs and inner cities were home to poor, less educated minority group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No more taxes from middle class = deterioration of citie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Urban renewal programs try to help eliminate poverty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Tear down slum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Build new high rise buildings for poor residents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Government made the poor stay poor &amp; would evict residents as soon as they began to earn $$ $$ $$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0:41:48Z</dcterms:created>
  <dc:creator>Administrator</dc:creator>
  <dc:description/>
  <dc:language>en-US</dc:language>
  <cp:lastModifiedBy>Administrator</cp:lastModifiedBy>
  <dcterms:modified xsi:type="dcterms:W3CDTF">2013-03-04T16:01:29Z</dcterms:modified>
  <cp:revision>32</cp:revision>
  <dc:subject/>
  <dc:title>Slide 1</dc:title>
</cp:coreProperties>
</file>